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74A1-66A9-4395-90D1-8F116740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D1FC-4EB5-4DB0-96FD-2169905F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225F-A453-4BB7-8B8F-C97AE26BE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7EC3-F607-45E7-9ACA-ACE13639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CC422-56B0-43C0-943F-CA9913B4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C4B1F-6467-423D-9793-04F66CB4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5459A-98FB-4DF0-87C9-71CCAA78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579C3-C01F-4ED4-98F5-AB164F8A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33616-C021-4B35-B8BB-E13FE2AC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62547-1047-43E4-AAAB-5A52A20C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9C9C2-4D38-401D-BB89-FD48EBAE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A96E-7FB1-4096-8C2C-F73661CD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D349F-EDF9-4FC2-955B-822A09A1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D8DFB-DE0C-4568-AC0D-0313E96F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82D2E-E3E8-43CD-9872-7DA00166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D5C32-A026-4C2B-B2AF-60223D07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919FE-CF61-4192-BA53-A0C3BB6D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22885-9ADC-4629-ADDE-B1FD291B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5D1A5-C1AA-4685-84D2-BDC85CDC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238BA-0541-4BF0-88C9-7DB64779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6D0D3-77C5-41C1-BEF2-F20BD66D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06E8E-DA72-4984-858B-0A6B806F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640A-3453-4A46-90BF-8CE08C30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C1EAE-2F10-47EA-95B2-7BDAEE64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2B45B-84B0-4A91-BD64-24FFCA15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8D536-6D8A-447E-8410-C04E0422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E983A-92AB-4754-9879-D1540E94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92FFC-9E52-48FF-91BC-6DD9BB48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6020B-28D4-4B58-8AD1-A5748781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7C8BA-3B6E-48D5-B813-AB640B62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6F41F-FEAF-4185-A351-772E2ACA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0E97B-A305-440D-B72F-5D2CF82F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2CDA9-83C0-4328-AE2A-0BC6810A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5098-462D-4DC7-9803-E5B6A2A0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3A8FE-E493-4787-806A-728014F8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10323-B439-4E74-9FA5-15A2B7C7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BB60C-AF3C-4D3A-B1C8-33DDEA52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4EE6D-F7C9-4D91-B4E7-35A8E29B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2E737-C2F8-4431-B061-3DC38E38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2E9B5-24DD-4E06-9C98-484B064B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22445-ACB0-4D04-A62C-1EA06328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026B8-75EB-4E52-9696-36B17071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7F2C7-C5BD-4FC1-97C0-3A53203E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E28C8-E30E-4306-A5CC-FC4B0101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5D62-5AA1-4C2A-95B2-7B089A42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BFB3E-5EDB-48BD-8FC1-0B4E2A2F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94744-3F01-4EE0-B20D-9D9E4340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4A80D-40D7-4863-816A-99690476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5E94D-B101-4449-9F5B-A400A2D1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270EC-2BE5-42DA-A2CD-F49793AC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F7A63-E69C-47D2-98A8-2A8E986D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06153-27BA-436A-B282-2B1CF974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6AE97-BEA7-44DA-B459-38F7C269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250D2-111D-4331-B4E8-169DA338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D964B-3EFE-42F6-9913-CEDC44FA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23A-65ED-4E6B-A43E-0E41B1E7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14FB0-0464-46DD-9F4B-7B34F18D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DCD8D-D765-45E9-BC4A-22D832C5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DBE31-C204-4011-94C4-D00D1436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C08EB-A7ED-42C5-9A01-C341D10A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A05EA-2638-49C8-9340-F3650F47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BF663-CDD8-46EF-9298-AA1E5EC3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1FCE1-444A-4408-96D7-722355A0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E6113-77E1-45A9-AFF2-39F594EE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D96F0-4025-4168-9E35-CD1F3EC6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F33BC-163D-4962-953C-5A45BC77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1DF5-03C2-4E95-936C-1D4459D7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F579D-E226-4B13-8C28-756DFBC3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879E9-0F37-4493-A70A-4E9AC5EB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C9377-5210-4CF6-B73E-20D9C22C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98EC8-B954-4973-BB9A-AC60849E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AC052-6D58-407E-9B47-35D2E187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FFF9E-C419-422A-98D2-FCD23A01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09621-A30C-4C76-AA31-B7A72900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46254-7810-417D-9AD6-270574F2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CDADE-4D33-44C8-B09D-016395F7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35123-E7D3-454A-99C5-86415BDB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0A67-6961-4409-82D4-C11C02F7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76A46-EB0A-4BB4-A340-7F66C271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258C1-6C57-4011-A91D-E78A04AD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9A779E-E617-4850-A2F6-5660FE0A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86DCE-18CE-486E-AB73-D1C8757F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9B803-D92F-44F3-8B1A-B2EC26CA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6EE2-A883-4B49-9B4E-8702B420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DA32-FDBA-4C90-84EB-FED17881C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EB0D-0C26-44BE-BDFC-D2CD3E645CC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64F0-C550-4FE7-B809-F2A559B937E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8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5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AF16-4A32-4749-BBB0-A6118773BA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345D-EEB4-4382-8E09-95AEA0877D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29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30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33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36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39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0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6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1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785F-8416-4145-A327-AF29483B1D6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05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06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10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30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2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33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39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42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4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45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7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48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0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51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3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54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60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63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66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69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1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72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7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9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80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2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83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5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86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8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89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1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92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4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95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7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98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0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01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3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04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6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07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9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10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12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13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14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1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2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23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F077-D87F-4F8F-82B3-606BC932819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7.WAV" TargetMode="External"/><Relationship Id="rId2" Type="http://schemas.microsoft.com/office/2007/relationships/media" Target="file:///tmp/home/.config/libreoffice/4/user/gallery/~PP17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124.WAV" TargetMode="External"/><Relationship Id="rId2" Type="http://schemas.microsoft.com/office/2007/relationships/media" Target="file:///tmp/home/.config/libreoffice/4/user/gallery/~PP2124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4057.WAV" TargetMode="External"/><Relationship Id="rId2" Type="http://schemas.microsoft.com/office/2007/relationships/media" Target="file:///tmp/home/.config/libreoffice/4/user/gallery/~PP4057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271.WAV" TargetMode="External"/><Relationship Id="rId2" Type="http://schemas.microsoft.com/office/2007/relationships/media" Target="file:///tmp/home/.config/libreoffice/4/user/gallery/~PP2271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641.WAV" TargetMode="External"/><Relationship Id="rId2" Type="http://schemas.microsoft.com/office/2007/relationships/media" Target="file:///tmp/home/.config/libreoffice/4/user/gallery/~PP641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141.WAV" TargetMode="External"/><Relationship Id="rId2" Type="http://schemas.microsoft.com/office/2007/relationships/media" Target="file:///tmp/home/.config/libreoffice/4/user/gallery/~PP1141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~PP3669.WAV" TargetMode="External"/><Relationship Id="rId3" Type="http://schemas.microsoft.com/office/2007/relationships/media" Target="file:///tmp/home/.config/libreoffice/4/user/gallery/~PP3669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~PP24.WAV" TargetMode="External"/><Relationship Id="rId3" Type="http://schemas.microsoft.com/office/2007/relationships/media" Target="file:///tmp/home/.config/libreoffice/4/user/gallery/~PP24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file:///tmp/home/.config/libreoffice/4/user/gallery/~PP2241.WAV" TargetMode="External"/><Relationship Id="rId5" Type="http://schemas.microsoft.com/office/2007/relationships/media" Target="file:///tmp/home/.config/libreoffice/4/user/gallery/~PP2241.WAV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file:///tmp/home/.config/libreoffice/4/user/gallery/~PP4035.WAV" TargetMode="External"/><Relationship Id="rId3" Type="http://schemas.microsoft.com/office/2007/relationships/media" Target="file:///tmp/home/.config/libreoffice/4/user/gallery/~PP4035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421.WAV" TargetMode="External"/><Relationship Id="rId2" Type="http://schemas.microsoft.com/office/2007/relationships/media" Target="file:///tmp/home/.config/libreoffice/4/user/gallery/~PP1421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file:///tmp/home/.config/libreoffice/4/user/gallery/~PP3060.WAV" TargetMode="External"/><Relationship Id="rId3" Type="http://schemas.microsoft.com/office/2007/relationships/media" Target="file:///tmp/home/.config/libreoffice/4/user/gallery/~PP3060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file:///tmp/home/.config/libreoffice/4/user/gallery/~PP3901.WAV" TargetMode="External"/><Relationship Id="rId3" Type="http://schemas.microsoft.com/office/2007/relationships/media" Target="file:///tmp/home/.config/libreoffice/4/user/gallery/~PP3901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1303.WAV" TargetMode="External"/><Relationship Id="rId2" Type="http://schemas.microsoft.com/office/2007/relationships/media" Target="file:///tmp/home/.config/libreoffice/4/user/gallery/~PP1303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Mein Ferie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n: Max Shey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alle Europa besichtig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4"/>
          <a:stretch/>
        </p:blipFill>
        <p:spPr>
          <a:xfrm>
            <a:off x="685800" y="1143000"/>
            <a:ext cx="7693200" cy="512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10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camping in den berg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4"/>
          <a:stretch/>
        </p:blipFill>
        <p:spPr>
          <a:xfrm>
            <a:off x="609480" y="1295280"/>
            <a:ext cx="7925040" cy="528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14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spanien musik gehor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9" name="" descr=""/>
          <p:cNvPicPr/>
          <p:nvPr/>
        </p:nvPicPr>
        <p:blipFill>
          <a:blip r:embed="rId4"/>
          <a:stretch/>
        </p:blipFill>
        <p:spPr>
          <a:xfrm>
            <a:off x="1600200" y="1295280"/>
            <a:ext cx="6550200" cy="485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18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fussball geseh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4"/>
          <a:stretch/>
        </p:blipFill>
        <p:spPr>
          <a:xfrm>
            <a:off x="1600200" y="1143000"/>
            <a:ext cx="6477120" cy="55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22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ch habe souvenirs gekauf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26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ch habe im ozean geangelt.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72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7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29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836200" cy="681192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n Europa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759880" cy="654048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m hote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86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038480" cy="232236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4324320" cy="242892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3"/>
          <a:stretch/>
        </p:blipFill>
        <p:spPr>
          <a:xfrm>
            <a:off x="2514600" y="3757680"/>
            <a:ext cx="4343400" cy="310032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war in Deutschland, England, und Spaini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91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836200" cy="66276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in Berg gewander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94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habe gutes essen gegess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4"/>
          <a:stretch/>
        </p:blipFill>
        <p:spPr>
          <a:xfrm>
            <a:off x="2286000" y="1143000"/>
            <a:ext cx="4560840" cy="55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96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10280" cy="5075280"/>
          </a:xfrm>
          <a:prstGeom prst="rect">
            <a:avLst/>
          </a:prstGeom>
          <a:ln w="0">
            <a:noFill/>
          </a:ln>
        </p:spPr>
      </p:pic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familie besuch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7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0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838080" y="1228680"/>
            <a:ext cx="7506000" cy="5629320"/>
          </a:xfrm>
          <a:prstGeom prst="rect">
            <a:avLst/>
          </a:prstGeom>
          <a:ln w="0">
            <a:noFill/>
          </a:ln>
        </p:spPr>
      </p:pic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fussball gespiel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7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3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bin im Ozean geschwomm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4"/>
          <a:stretch/>
        </p:blipFill>
        <p:spPr>
          <a:xfrm>
            <a:off x="152280" y="1219320"/>
            <a:ext cx="8610840" cy="50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6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8:08:18Z</dcterms:created>
  <dc:creator>CUSD220</dc:creator>
  <dc:description/>
  <dc:language>en-US</dc:language>
  <cp:lastModifiedBy>CUSD220</cp:lastModifiedBy>
  <dcterms:modified xsi:type="dcterms:W3CDTF">2011-11-16T17:05:34Z</dcterms:modified>
  <cp:revision>5</cp:revision>
  <dc:subject/>
  <dc:title>Mein Ferien</dc:title>
</cp:coreProperties>
</file>